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3024B43C-FF60-4D72-A09E-EE503AB6B8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16D-88BF-4395-A979-637288CB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ED4-4BC2-4100-A8A4-E0420E6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B2F-F5AD-4AB5-91DD-35E4165D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B87-A3D0-4417-B3D5-F9785723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C32-FAC8-4F1B-ACB0-2B61744C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B12-6825-422D-B10E-7CA7B91D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B89-1F2D-4BC4-90C3-31684DA6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370-FD36-4C21-9C94-4265FC7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86A-314B-4CD6-9485-BC0089C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277-295F-4B15-899A-30AF9F8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BE3-9B0D-44A1-94F2-DEAA9C6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46B-0A98-4CE3-AC0B-F86015B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BD24D-EEB4-41DB-AC54-EABF5EA58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01360" y="2065320"/>
            <a:ext cx="4956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1189080"/>
            <a:ext cx="906768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 (repeat)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 (repeat) 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68360" y="1189080"/>
            <a:ext cx="906768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8360" y="1189080"/>
            <a:ext cx="9067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68360" y="1189080"/>
            <a:ext cx="9067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Wade, Peter</cp:lastModifiedBy>
  <dcterms:modified xsi:type="dcterms:W3CDTF">2016-02-17T22:10:33Z</dcterms:modified>
  <cp:revision>1922</cp:revision>
  <dc:subject/>
  <dc:title>Slide 1</dc:title>
</cp:coreProperties>
</file>